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14B2-C8AB-4427-9C60-14F588B8D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7592-AAAD-4C10-9DD9-34603B0B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73C9-D05E-4E61-9591-317E112D2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808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684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896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808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684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8F51-24AC-4885-BA00-25E4D1721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493F-0EA2-4021-858F-048C8F39C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2898-3900-452F-BC4B-28BF09A5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3ADA-4C9D-4424-9876-F2C3AE3E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028C-F9FA-439E-BB0F-C4696744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5A31-4C1B-4243-BF02-3C959B58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152280"/>
            <a:ext cx="7391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AED3-6202-4986-8294-40913D82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48E0-5E25-4FA9-8F68-ACF78CF3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4A10-61E0-43B4-B763-920D8729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B881-62EE-4C20-9AD1-9CF35339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8964-7929-43CC-8847-7E55995E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4B95-D68C-4622-882C-A0C36A70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990B-1F70-4A48-9760-F6A0C9EFE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808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684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896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808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684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E329-25A6-41B4-9861-F8B554359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0CE2-3284-4F9F-AFB4-E0BB4F1A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2D24-C78A-44CA-81EB-CA8579C6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4E05-90EA-439D-BF99-5B820B84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152280"/>
            <a:ext cx="7391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1C09-8B90-4BE0-8664-9B9884EE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3F8F-AD73-42F5-9888-E398C575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3121-419D-431B-8D96-BADBDDED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4E7F-3E89-4B03-BF45-85BE4A4C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EB84-099C-434A-B2AA-C2133660D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829F-FCEE-4D36-9339-CB622CDE0676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289548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rology in Pract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76160" y="3733560"/>
            <a:ext cx="739116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xual Crimes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aling with Rap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61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What is rape?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he unapproved sexual advances upon a person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In order to be classified as rape: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Must be actual penetration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Use of force by assailant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Lack of mutual consent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04" name="Picture 5" descr="108-rape-lg"/>
          <p:cNvPicPr/>
          <p:nvPr/>
        </p:nvPicPr>
        <p:blipFill>
          <a:blip r:embed="rId1"/>
          <a:stretch/>
        </p:blipFill>
        <p:spPr>
          <a:xfrm>
            <a:off x="4991040" y="2832120"/>
            <a:ext cx="361944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cts on Rap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61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Not stopping having sex when indicated by your partner despite previous consented sex is rape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Pushing sex when your partner does not want it is rap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If you get a person inebriated, then perform sexual intercourse it is rap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991040" y="1676160"/>
            <a:ext cx="361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If you don’t get a person drunk/high and know they are, but perform intercourse, it is rape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If you don’t get a person drunk/high and don’t know they are, but still perform intercourse, it is rape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If you are also drunk or high and have sex you have committed rape.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ypes of Rap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61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Marital Rape: forcible, unwanted sex in a marriag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Statutory Rape: sex with a minor under the age of consent, even if the minor agrees to the act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Blitz Rape: an unexpected sexual assault by a total stranger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991040" y="1676160"/>
            <a:ext cx="361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Acquaintance Rape: rape committed by someone barely known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Incest: the rape of a child by an elder relative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Group Rape: a group of people participate in the rape of a single individual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Gray Rape: a victim’s word against the assailant, there is no other evidence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aling with Rap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91040" y="1676160"/>
            <a:ext cx="361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rauma goes beyond physical discomfort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May cause long lasting psychological traum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Rape is a heinous crime that although it involves sex, is about aggression and humiliatio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13" name="Picture 5" descr="rape"/>
          <p:cNvPicPr/>
          <p:nvPr/>
        </p:nvPicPr>
        <p:blipFill>
          <a:blip r:embed="rId1"/>
          <a:stretch/>
        </p:blipFill>
        <p:spPr>
          <a:xfrm>
            <a:off x="1219320" y="2681280"/>
            <a:ext cx="36194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aling with Rap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61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Rape is often accompanied by homicide, either as part of the violent act or attempt to prevent getting caught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Rape is often part of a serial killer’s homicid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Particularly when killer is sexually sadistic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Photo is John Wayne Gacy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16" name="Picture 5" descr="gacy"/>
          <p:cNvPicPr/>
          <p:nvPr/>
        </p:nvPicPr>
        <p:blipFill>
          <a:blip r:embed="rId1"/>
          <a:stretch/>
        </p:blipFill>
        <p:spPr>
          <a:xfrm>
            <a:off x="5572080" y="2529000"/>
            <a:ext cx="245736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Rape Exa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91040" y="1676160"/>
            <a:ext cx="361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Should be completed as soon as possible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Unfortunately, most victims wait days, months, or even years before even reporting the crime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19" name="Picture 5" descr="lee-testing-6-26-07"/>
          <p:cNvPicPr/>
          <p:nvPr/>
        </p:nvPicPr>
        <p:blipFill>
          <a:blip r:embed="rId1"/>
          <a:stretch/>
        </p:blipFill>
        <p:spPr>
          <a:xfrm>
            <a:off x="1219320" y="2832120"/>
            <a:ext cx="361944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ape Evide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men- presence indicates sex, but not rape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Bruises, scars, abrasions- proves violent event, but not rape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ransfer of physical evidence- blood, semen, hairs, and fibers make a good case for rape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llection of Evide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ahoma"/>
              </a:rPr>
              <a:t>ALL 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outer and undergarments from the involved parties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In separate paper bags, not plastic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Place clean bed sheet on the floor and lay a clean paper sheet over it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Victim removes shoes before her standing on paper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Have victim disrobe while standing on paper, this allows for foreign material to collect on the paper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llection of Evide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61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Collectors should wear disposable latex gloves to prevent contaminatio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Victim should undergo a medical examinatio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Evidence and medical results provide support for rape cas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26" name="Picture 5" descr="07-06lomirs"/>
          <p:cNvPicPr/>
          <p:nvPr/>
        </p:nvPicPr>
        <p:blipFill>
          <a:blip r:embed="rId1"/>
          <a:stretch/>
        </p:blipFill>
        <p:spPr>
          <a:xfrm>
            <a:off x="5848200" y="2057400"/>
            <a:ext cx="266868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n a male be raped by a femal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By definition of rape, yes he can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In order for a male to be raped by a female, the female must first do something to sexually arouse the male.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his is followed by forced penetration (the definition of rape)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aracteristics of Sem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61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Search for semen includes corpse, victim, undergarments, bed sheets, mattresses, carpeting, flooring, etc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Stain location-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Often visible as stiff crusty spot (s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86" name="Picture 5" descr="Fig%2026"/>
          <p:cNvPicPr/>
          <p:nvPr/>
        </p:nvPicPr>
        <p:blipFill>
          <a:blip r:embed="rId1"/>
          <a:stretch/>
        </p:blipFill>
        <p:spPr>
          <a:xfrm>
            <a:off x="4991040" y="2308320"/>
            <a:ext cx="361944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dentifying a semen stai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Acid phosphotase color test-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Acid phosphotase is an enzyme found in the prostate gland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If found, an acidic solution of sodium alpha napthyphosphotase and fast blue dye produces a purple color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Presumptive test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dentifi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4-methyl umbelliferyl phosphate (MUP)-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Will fluoresce under UV light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Reaction time of less than 30 seconds is evident of strong semen concentration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Fruit juices, cauliflower, and watermelon produce false positive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dentifi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Microscope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Immerse stain in small amount of water and view under microscope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Presence of spermatozoa is proof of semen sample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2 key term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3" marL="1562040" indent="-228600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Oligospermia- low sperm count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3" marL="1562040" indent="-228600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Aspermia- absence of sperm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dentifi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If no spermatozoa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Run p30 (specific antigen (PSA)) test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Combining antibody30 with electrical charge causes a visible line between antigen and antibody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P30 is unique to seminal fluid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sitive Test, then what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91040" y="1676160"/>
            <a:ext cx="361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Once semen test produces positive results, a link is made to individual through DNA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97" name="Picture 5" descr="01-coll-dna-knoll-l"/>
          <p:cNvPicPr/>
          <p:nvPr/>
        </p:nvPicPr>
        <p:blipFill>
          <a:blip r:embed="rId1"/>
          <a:stretch/>
        </p:blipFill>
        <p:spPr>
          <a:xfrm>
            <a:off x="1609560" y="2200320"/>
            <a:ext cx="283860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perm Fac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Motile Sperm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Generally survives 4-6 hours in the vaginal cavity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Non-motile Sperm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Can be found up to 3-6 days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Intact sperm with tails not normally found after 16 hours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Important to find out time of rape and time intercourse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perm Fac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Important to rule out consensual partner through buccal (mouth) swab and blood sample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men is resilien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Even after washing clothes, sheets, linens, etc. there could still be traces of spermatozoa and PSA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Just ask President Clinton about Monica’s Dress…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01:57:27Z</dcterms:created>
  <dc:creator>Adam's Homepage</dc:creator>
  <dc:description/>
  <cp:keywords/>
  <dc:language>en-US</dc:language>
  <cp:lastModifiedBy>Adam Goosby</cp:lastModifiedBy>
  <dcterms:modified xsi:type="dcterms:W3CDTF">2011-07-02T22:37:04Z</dcterms:modified>
  <cp:revision>5</cp:revision>
  <dc:subject/>
  <dc:title>Serology in Pract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271033</vt:lpwstr>
  </property>
</Properties>
</file>